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BDD7-88EB-4DD3-A484-5FA73521283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E799-49F1-4698-849B-FF17DC6F457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F275-1573-413B-BA5F-D47CBD46809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30BA-63F1-4D34-851E-925E45E3A0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2BA8-3F6B-4605-A15B-10E18D018E1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F2B2-D74F-47AF-B6F0-94197D9E54E4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7583-8169-4E4E-8381-7A53E664A8E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BCF6-6C0A-4D34-9B82-283425B2DEA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8F14-02CC-4F4D-A7AE-861101F845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3DDB-6F91-4779-8772-A463CB8BF42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A577-1DC3-4ECF-94F6-35E30449C8C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CDD2-672F-43E8-8C67-A59722EFCF7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cus on economy, controls and due processes. The MOF may perform tight control on sp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849F-5195-43C1-B4E8-A66FE91AA2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12644FF-16CF-4BF6-B2BD-797BA52E5429}" type="slidenum">
              <a:rPr b="0" lang="fr-FR" sz="1200" spc="-1" strike="noStrike">
                <a:solidFill>
                  <a:srgbClr val="0f5494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133F-AF85-4ABE-B5DD-3E66BA90BA3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1953-FC4B-4C84-870D-03C874F214E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146-FE29-48B5-B2F0-B289A95E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EA4-E8A3-4B5C-B9CA-C405485E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634-B829-42F5-A664-F27F8806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E8C-F7DE-4AAC-9CA4-C2F89DAE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3E16-82A3-4DA3-9A0B-18BCC250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AF80-6038-4D45-ACEC-4AB117FB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1363-3CF8-411D-A7E4-C583CB23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FB80-B121-4F5C-BA01-20BB6E27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5D44-E605-482D-9464-12127AC3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9EED-266C-4A2A-BEBD-9F497F7B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2068-5211-4783-A774-87C96AC6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0C8-BCD5-4E02-8319-9A15FF9B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9CCB-F712-4C54-9AEC-651428BF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386C-7F4B-428C-B53B-1827A84D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5CF9-CF49-4157-A98C-9D153D54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0E35-C11F-4329-8224-109B7ED7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474A-5EE2-4520-AAA0-240E5364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F6E407-B119-487F-8762-2BC35E6F67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0E475-B66E-4DA1-A3E0-FF557DD45F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2A400E-7DC9-4DC3-BD22-EBF5BB6985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83A7E8-EBCC-466C-8D74-3462804EDF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81748-27BC-421B-A2B7-84A974E174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96F-7FF4-4517-9878-8551BA7B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539DBB-FB3A-4A6C-A55E-35E60AE89D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DD1660-D9B4-4EB9-98A4-62527DD60D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92D706-E3DF-4AF6-8A2C-C059789931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B63001-65A2-42C7-9D74-5B50685709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2D5A27-D924-4C85-9B6E-5C88FC9BE8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70A48D-E410-44A1-9406-6B1BE36421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8F8027-646D-45F4-97C3-DB25655B8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F55-4BB6-45A5-BA34-8F5E896A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DE4-5BE7-4736-B95A-A38604B0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A14-74F8-4404-8323-F5DD69F6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EE9-35D1-47C7-A190-77DAD3DE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C8E-51DE-470E-B528-CCE12619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A07-0A78-4BED-A192-6B270C13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C862-526E-49BE-A617-4BBB24D41B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7691-522D-4B4B-B699-A74E72F2C8E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E7C3-A97E-478D-B93F-CA1F0579C3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71320" y="442872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Module 1.2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ourquoi réformer un système de GFP? Pourquoi établir un séquençage</a:t>
            </a: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357120" y="221472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d624"/>
                </a:solidFill>
                <a:latin typeface="Verdana"/>
              </a:rPr>
              <a:t>Problématique des réformes budgétaires Unité 1. Présentation de la problématique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urquoi réformer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urquoi un séquença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s bases (ou fonctions essentielles) de la GF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’approche par platefor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Comment traiter les réformes trop sophistiquées pour le contexte du pay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odule 1.2. Points examin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Flèche droite 3"/>
          <p:cNvSpPr/>
          <p:nvPr/>
        </p:nvSpPr>
        <p:spPr>
          <a:xfrm>
            <a:off x="539640" y="4005360"/>
            <a:ext cx="7920000" cy="1008000"/>
          </a:xfrm>
          <a:prstGeom prst="rightArrow">
            <a:avLst>
              <a:gd name="adj1" fmla="val 50000"/>
              <a:gd name="adj2" fmla="val 49980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1357200"/>
            <a:ext cx="77864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f5494"/>
                </a:solidFill>
                <a:latin typeface="Verdana"/>
              </a:rPr>
              <a:t>Allen Schick: les bases d'abord!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3080" y="1989000"/>
            <a:ext cx="83185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  <a:ea typeface="Arial"/>
              </a:rPr>
              <a:t>En 1998, Schick réagit contre les tentatives d'exportation du modèle néo-zélandais vers les pays en développement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  <a:ea typeface="Arial"/>
              </a:rPr>
              <a:t>Il recommande  d'assainir les bases en premier lieu plutôt que de "jouer à saute-mouton"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f5494"/>
                </a:solidFill>
                <a:latin typeface="Verdana"/>
              </a:rPr>
              <a:t>Les bases ont aussi été appelées récemment “core fonctions” –fonctions essentielles</a:t>
            </a:r>
            <a:endParaRPr b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Espace réservé du numéro de diapositive 5"/>
          <p:cNvSpPr/>
          <p:nvPr/>
        </p:nvSpPr>
        <p:spPr>
          <a:xfrm>
            <a:off x="35712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A267-4207-45CD-BEBD-7A74543C75B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47560" y="5854680"/>
            <a:ext cx="820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f5494"/>
                </a:solidFill>
                <a:latin typeface="Verdana"/>
              </a:rPr>
              <a:t>Schick, Allen. 1998. “Why Most Developing Countries Should Not Try New. Zealand Reforms.” The World Bank Research Observer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7786800" y="128520"/>
            <a:ext cx="1168200" cy="1282680"/>
          </a:xfrm>
          <a:prstGeom prst="rect">
            <a:avLst/>
          </a:prstGeom>
          <a:ln w="0">
            <a:noFill/>
          </a:ln>
        </p:spPr>
      </p:pic>
      <p:sp>
        <p:nvSpPr>
          <p:cNvPr id="170" name="Line 6"/>
          <p:cNvSpPr/>
          <p:nvPr/>
        </p:nvSpPr>
        <p:spPr>
          <a:xfrm>
            <a:off x="7929720" y="291960"/>
            <a:ext cx="831600" cy="9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7929720" y="127080"/>
            <a:ext cx="1025280" cy="11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2" name="Picture 12" descr=""/>
          <p:cNvPicPr/>
          <p:nvPr/>
        </p:nvPicPr>
        <p:blipFill>
          <a:blip r:embed="rId2"/>
          <a:stretch/>
        </p:blipFill>
        <p:spPr>
          <a:xfrm>
            <a:off x="1258920" y="0"/>
            <a:ext cx="720720" cy="857160"/>
          </a:xfrm>
          <a:prstGeom prst="rect">
            <a:avLst/>
          </a:prstGeom>
          <a:ln w="0">
            <a:noFill/>
          </a:ln>
        </p:spPr>
      </p:pic>
      <p:sp>
        <p:nvSpPr>
          <p:cNvPr id="173" name="Line 13"/>
          <p:cNvSpPr/>
          <p:nvPr/>
        </p:nvSpPr>
        <p:spPr>
          <a:xfrm>
            <a:off x="1692360" y="333360"/>
            <a:ext cx="6264360" cy="169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39640" y="1330200"/>
            <a:ext cx="8280360" cy="5327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763640" y="6494400"/>
            <a:ext cx="7572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Lydian"/>
              </a:rPr>
              <a:t>Banque mondiale. </a:t>
            </a:r>
            <a:r>
              <a:rPr b="0" lang="fr-FR" sz="1600" spc="-1" strike="noStrike">
                <a:solidFill>
                  <a:srgbClr val="0f5494"/>
                </a:solidFill>
                <a:latin typeface="Lydian"/>
              </a:rPr>
              <a:t>	</a:t>
            </a:r>
            <a:r>
              <a:rPr b="0" lang="fr-FR" sz="1600" spc="-1" strike="noStrike">
                <a:solidFill>
                  <a:srgbClr val="0f5494"/>
                </a:solidFill>
                <a:latin typeface="Lydian"/>
              </a:rPr>
              <a:t>	</a:t>
            </a:r>
            <a:r>
              <a:rPr b="0" lang="fr-FR" sz="1600" spc="-1" strike="noStrike">
                <a:solidFill>
                  <a:srgbClr val="0f5494"/>
                </a:solidFill>
                <a:latin typeface="Lydian"/>
              </a:rPr>
              <a:t>Manuel de gestion des dépenses publiqu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Orientations pour le développement des contrôles inter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2920" y="2214720"/>
            <a:ext cx="83296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ans le même esprit A. Shick distingue trois étapes dans le développement des régimes de contrôle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257480" indent="-343080">
              <a:spcBef>
                <a:spcPts val="476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1</a:t>
            </a:r>
            <a:r>
              <a:rPr b="0" lang="fr-FR" sz="1900" spc="-1" strike="noStrike" baseline="30000">
                <a:solidFill>
                  <a:srgbClr val="0f5494"/>
                </a:solidFill>
                <a:latin typeface="Verdana"/>
              </a:rPr>
              <a:t>ère</a:t>
            </a: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 étape: Contrôles de tierce partie (ministère des finances)  externes au ministères dépensier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2" marL="1257480" indent="-343080">
              <a:spcBef>
                <a:spcPts val="476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2</a:t>
            </a:r>
            <a:r>
              <a:rPr b="0" lang="fr-FR" sz="1900" spc="-1" strike="noStrike" baseline="30000">
                <a:solidFill>
                  <a:srgbClr val="0f5494"/>
                </a:solidFill>
                <a:latin typeface="Verdana"/>
              </a:rPr>
              <a:t>ème</a:t>
            </a: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 étape: Contrôle internes aux ministères dépensier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2" marL="1257480" indent="-343080">
              <a:spcBef>
                <a:spcPts val="476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3</a:t>
            </a:r>
            <a:r>
              <a:rPr b="0" lang="fr-FR" sz="1900" spc="-1" strike="noStrike" baseline="30000">
                <a:solidFill>
                  <a:srgbClr val="0f5494"/>
                </a:solidFill>
                <a:latin typeface="Verdana"/>
              </a:rPr>
              <a:t>ème</a:t>
            </a: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 étape: Responsabilisation des gestionnair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l estime nécessaire de suivre ces étapes pour développer une culture budgétaire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257480" indent="-343080">
              <a:spcBef>
                <a:spcPts val="476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Mais les contrôles de tierce partie (1ère étape) doivent être justes et réalistes pour constituer une base de départ solid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Espace réservé du numéro de diapositive 5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1004-3D56-4668-B305-2C508E274B0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57200" y="114264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Quels sont les objectifs et dimensions assignés aux base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071720" y="2571840"/>
            <a:ext cx="2523960" cy="59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2040" bIns="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Rendre compte aux citoyens, être à l'écout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309840" y="3171960"/>
            <a:ext cx="2833920" cy="11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2040" bIns="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Rôle du Parlemen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dans les sociétés démocratiqu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928880" y="5286240"/>
            <a:ext cx="2571840" cy="10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2040" bIns="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Procédures en bonne et du forme (probité, régularité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286240" y="2357280"/>
            <a:ext cx="252432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2040" bIns="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Discipline budgétaire global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14240" y="3929040"/>
            <a:ext cx="2571840" cy="12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2040" bIns="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Allocation des ressources et politique fiscale conforme aux objectif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4500720" y="4357800"/>
            <a:ext cx="292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2040" bIns="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Fourniture de services publics &amp; administration fiscale efficient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838440" cy="1200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7429680" y="5311800"/>
            <a:ext cx="1306440" cy="15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fr-FR" sz="9600" spc="-1" strike="noStrike">
                <a:solidFill>
                  <a:srgbClr val="0f5494"/>
                </a:solidFill>
                <a:latin typeface="Lydian"/>
              </a:rPr>
              <a:t>?</a:t>
            </a:r>
            <a:endParaRPr b="0" lang="en-US" sz="9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Comment définir les bases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78920" y="1844640"/>
            <a:ext cx="8821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Appelées aussi “core fonctions” –fonctions essentiel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éfinitions liées à la hiérarchie entre les objectifs de la GFP, indiquée dans le module 1.1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éfinitions proposées 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Ensemble de fonctions nécessaires pour assurer l’opérationnalité des autres fonctions de manière durable sans absorber un niveau excessif de ressource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Fonctions visant à assurer la discipline budgétaire (probité, régularité –</a:t>
            </a:r>
            <a:r>
              <a:rPr b="0" i="1" lang="fr-FR" sz="1900" spc="-1" strike="noStrike">
                <a:solidFill>
                  <a:srgbClr val="0f5494"/>
                </a:solidFill>
                <a:latin typeface="Verdana"/>
              </a:rPr>
              <a:t>financial compliance</a:t>
            </a: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). 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En tenant compte au moins dans une deuxième étape, de la dimension « crédibilité du budget » au sens du PEFA (c’est-à-dire budget exécuté selon les prévisions initiales)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Wingdings"/>
                <a:ea typeface="Wingdings"/>
              </a:rPr>
              <a:t></a:t>
            </a: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la crédibilité du budget nécessite un certain degré de discipline budgétaire globale (respect des équilibres macro-économiques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2" marL="914400"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Exemples de fonctions basiqu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Classification administrative et par nature économique (compatible avec GFS/SFP) des dépens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egré d’exhaustivité du budget satisfaisa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mmatriculation des contribuab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uivi financier du budget régulier base caisse et engageme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egistre d’actifs physiques pour les actifs « à risque » (ex. véhicules, ordinateur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Comptes de fin d’année/loi de règlement de l’année n-1 transmis au Parlement au plus tard avec le projet de budget de l’année n+1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"Les bases d'abord« : Faut-il nuancer l'approche 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999800"/>
            <a:ext cx="8229600" cy="41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buClr>
                <a:srgbClr val="0f54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Arial"/>
                <a:ea typeface="Arial"/>
              </a:rPr>
              <a:t>On part rarement de ‘zéro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Arial"/>
                <a:ea typeface="Arial"/>
              </a:rPr>
              <a:t>Des réformes "avancées" peuvent être déjà en place, même si tous les éléments de base ne sont pas tous en pla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Arial"/>
                <a:ea typeface="Arial"/>
              </a:rPr>
              <a:t>Les systèmes peuvent comprendre des éléments de robustesse et d'autres de faiblesse. Faut-il attendre d'avoir 100% des "bases"?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buClr>
                <a:srgbClr val="0f54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Arial"/>
                <a:ea typeface="Arial"/>
              </a:rPr>
              <a:t>Les réformes doivent être attractives dès le départ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buClr>
                <a:srgbClr val="0f54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Arial"/>
                <a:ea typeface="Arial"/>
              </a:rPr>
              <a:t>Les contrôles centraux ne sont pas la panacée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Arial"/>
                <a:ea typeface="Arial"/>
              </a:rPr>
              <a:t>Risques d'hypercentralisation et de corruption des contrôleurs. Schick souligne d’ailleurs que les contrôles centraux doivent être loyau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Arial"/>
                <a:ea typeface="Arial"/>
              </a:rPr>
              <a:t>Les ministères sectoriels doivent être impliqués dans les réformes. On ne peut se contenter de les contrôle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2" marL="110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Espace réservé du numéro de diapositive 5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5CBF-DC57-4865-AEEE-23B8CB9137F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39280" y="2204640"/>
            <a:ext cx="8434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urquoi réformer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urquoi un séquença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s bases (ou fonctions essentielles) de la GF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’approche par platefor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Comment traiter les réformes trop sophistiquées pour le contexte du pay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odule 1.2. Points examin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èche droite 3"/>
          <p:cNvSpPr/>
          <p:nvPr/>
        </p:nvSpPr>
        <p:spPr>
          <a:xfrm>
            <a:off x="539640" y="4581360"/>
            <a:ext cx="4896000" cy="1008360"/>
          </a:xfrm>
          <a:prstGeom prst="rightArrow">
            <a:avLst>
              <a:gd name="adj1" fmla="val 50000"/>
              <a:gd name="adj2" fmla="val 49993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L'approche par plateform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5640" y="206028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a plateforme: Un ensemble cohérent de mesures permettant de réaliser une ensemble d'améliorations réalistes dans la gestion des finances publiqu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a stratégie de réforme comprend un séquence de platefor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Chaque plateforme permet de jeter les bases pour la plateforme suivante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57120" y="6248520"/>
            <a:ext cx="82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Cf. Peter Brooke. Rapport pour PEFA et DFID briefing paper juillet 2005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Espace réservé du numéro de diapositive 5"/>
          <p:cNvSpPr/>
          <p:nvPr/>
        </p:nvSpPr>
        <p:spPr>
          <a:xfrm>
            <a:off x="8143920" y="6272280"/>
            <a:ext cx="58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DD49-F1BD-43B8-8B55-8EBCAA06C522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50480" y="2421000"/>
            <a:ext cx="85359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Module 1.1. Objectifs de la GFP et approches budgétair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Module 1.2. Pourquoi réformer les systèmes de GFP? Pourquoi établir un séquençage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Module 1.3. Le point de départ : évaluer les systèmes de GFP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Module 1.4. Conditions pour le succès des réform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63640" y="134100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Jour 1: Approches pour une réforme de la GFP</a:t>
            </a:r>
            <a:br>
              <a:rPr sz="2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D290-FE09-4D37-A171-781F44DDBF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57120" y="412920"/>
            <a:ext cx="8642520" cy="6445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357120" y="3571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Verdana"/>
              </a:rPr>
              <a:t>Exemple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Espace réservé du numéro de diapositive 5"/>
          <p:cNvSpPr/>
          <p:nvPr/>
        </p:nvSpPr>
        <p:spPr>
          <a:xfrm>
            <a:off x="7010280" y="63943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0E5A-B5C1-4820-B685-328CD79D4C8F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Les limites de l'approche par plateform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13840" y="2142720"/>
            <a:ext cx="89298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  <a:ea typeface="Arial"/>
              </a:rPr>
              <a:t>A été mise en œuvre au Cambodge, au Kenya, …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  <a:ea typeface="Arial"/>
              </a:rPr>
              <a:t>Encore trop tôt pour juger (?), mais l'approche est quelquefois reste complexe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  <a:ea typeface="Arial"/>
              </a:rPr>
              <a:t>D’après Alle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207080" indent="-32904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  <a:ea typeface="Arial"/>
              </a:rPr>
              <a:t>Accent insuffisant sur les contraintes institutionnelles, sous-estimation des résistanc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207080" indent="-32904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  <a:ea typeface="Arial"/>
              </a:rPr>
              <a:t>Surcharge d'activités. Au Cambodge: la plateforme 1 comprenait 27 activités, 250 actions spécifiqu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207080" indent="-32904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  <a:ea typeface="Arial"/>
              </a:rPr>
              <a:t>Horizon temporel irréaliste, etablisseme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nt des priorités médiocr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207080" indent="-32904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Micro-manag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5F13-CBD4-4EE0-93B4-B34BF91E8869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21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L’approche par plateformes : Eviter le schématisme, rester simp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f5494"/>
                </a:solidFill>
                <a:latin typeface="Verdana"/>
                <a:ea typeface="Arial"/>
              </a:rPr>
              <a:t>Une suite de plateformes comportera inévitablement des chevauchements 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  <a:ea typeface="Arial"/>
              </a:rPr>
              <a:t>Il faut tenir compte de l'existant qui peut être plus "avancé"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  <a:ea typeface="Arial"/>
              </a:rPr>
              <a:t>Il faut consolider les "plateformes" précédentes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f5494"/>
                </a:solidFill>
                <a:latin typeface="Verdana"/>
                <a:ea typeface="Arial"/>
              </a:rPr>
              <a:t>La première "plateforme" (les bases+?) peut être définie, peut être aussi la deuxième, mais au-delà ??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3721-0EF3-4EDB-ACBF-3F364C1DD4E8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39280" y="2095200"/>
            <a:ext cx="8434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urquoi réformer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urquoi un séquença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s bases (ou fonctions essentielles) de la GF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’approche par plateforme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Comment traiter les réformes trop sophistiquées pour le contexte du pay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5760" y="123948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odule 1.2. Points examin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Flèche droite 3"/>
          <p:cNvSpPr/>
          <p:nvPr/>
        </p:nvSpPr>
        <p:spPr>
          <a:xfrm>
            <a:off x="615960" y="5229360"/>
            <a:ext cx="8281800" cy="1512720"/>
          </a:xfrm>
          <a:prstGeom prst="rightArrow">
            <a:avLst>
              <a:gd name="adj1" fmla="val 50000"/>
              <a:gd name="adj2" fmla="val 49983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50560" y="1773000"/>
            <a:ext cx="8435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Comme discuté dans le module 1.4, beaucoup de pays en développement mettent en place des réformes « sophistiquées » alors que les bases (ou fonctions essentielles) ne sont que très partiellement en plac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Ex. CDMT, budget-programme, comptabilité d’exercice (</a:t>
            </a: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accrual accounting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)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Mettre en place ce type de réforme va à l’encontre de l’ordre logique défini dans ce module, mais les écarter peut être difficile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essions des bailleurs pour poursuivre les réformes sophistiqué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Volonté interne de démontrer que le pays se modernise et est capable de mener à bien des réformes complexes, etc</a:t>
            </a: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4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Le dilemn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79280" y="170028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La priorité au renforcement des bases doit être respectée, mais si les réformes « sophistiquées » ne peuvent être remises en cause, il conviendra de: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524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veiller à inclure dans le programme de réforme les mesures basiques et les pré-conditions nécessaires pour rendre efficace ces mesures de réforme « sophistiquées » 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3" marL="1551960" indent="-22140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Cf. les priorités définies par domaine de la GFP dans les modules du jou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Exemple: introduire la comptabilité matière </a:t>
            </a:r>
            <a:r>
              <a:rPr b="0" i="1" lang="fr-FR" sz="1800" spc="-1" strike="noStrike">
                <a:solidFill>
                  <a:srgbClr val="0f5494"/>
                </a:solidFill>
                <a:latin typeface="Verdana"/>
              </a:rPr>
              <a:t>(assets registers) </a:t>
            </a: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si le pays  veut développer la comptabilité d’exercice </a:t>
            </a:r>
            <a:r>
              <a:rPr b="0" i="1" lang="fr-FR" sz="1800" spc="-1" strike="noStrike">
                <a:solidFill>
                  <a:srgbClr val="0f5494"/>
                </a:solidFill>
                <a:latin typeface="Verdana"/>
              </a:rPr>
              <a:t>(accrual accoun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24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Redimensionner certaines mesures de réforme « sophistiquées » en en limitant les ambitions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3" marL="1551960" indent="-22140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Ex., un budget-programme peut dans une première étape être limité à un document pou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f5494"/>
                </a:solidFill>
                <a:latin typeface="Verdana"/>
              </a:rPr>
              <a:t>Comment traiter de telles situations?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essage cle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Une réforme budgétaire comprend en général une série d’étape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ors de la première phase de la réforme la plus grande attention doit être portées aux bases d’un système budgétaire c’est-à-dire au fonctions assurant la discipline budgétaire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Right Arrow 3"/>
          <p:cNvSpPr/>
          <p:nvPr/>
        </p:nvSpPr>
        <p:spPr>
          <a:xfrm>
            <a:off x="1332000" y="1447920"/>
            <a:ext cx="1584360" cy="72072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ight Arrow 4"/>
          <p:cNvSpPr/>
          <p:nvPr/>
        </p:nvSpPr>
        <p:spPr>
          <a:xfrm rot="10800000">
            <a:off x="6084360" y="1447920"/>
            <a:ext cx="1584360" cy="72072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306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Après une brève présentation des objectifs d’une réforme, ce module présente les notions de « bases » (ou fonctions essentielles) d’un système budgétaire et examine les questions liées au « séquençage » (détermination des étapes) d’une réforme budgétair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Module 1.2. Pourquoi réformer les systèmes de GFP? Pourquoi établir un séquençage? </a:t>
            </a:r>
            <a:br>
              <a:rPr sz="2400"/>
            </a:br>
            <a:br>
              <a:rPr sz="2400"/>
            </a:br>
            <a:r>
              <a:rPr b="1" i="1" lang="fr-FR" sz="2400" spc="-1" strike="noStrike">
                <a:solidFill>
                  <a:srgbClr val="0f5494"/>
                </a:solidFill>
                <a:latin typeface="Verdana"/>
              </a:rPr>
              <a:t>Objectifs du module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95280" y="22712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575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0000"/>
                </a:solidFill>
                <a:latin typeface="Verdana"/>
              </a:rPr>
              <a:t>Pourquoi réformer?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f5494"/>
                </a:solidFill>
                <a:latin typeface="Verdana"/>
              </a:rPr>
              <a:t>Pourquoi un séquençage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f5494"/>
                </a:solidFill>
                <a:latin typeface="Verdana"/>
              </a:rPr>
              <a:t>Les bases (ou fonctions essentielles) de la GFP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f5494"/>
                </a:solidFill>
                <a:latin typeface="Verdana"/>
              </a:rPr>
              <a:t>L’approche par plateformes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f5494"/>
                </a:solidFill>
                <a:latin typeface="Verdana"/>
              </a:rPr>
              <a:t>Comment traiter les réformes trop sophistiquées pour le contexte du pays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odule 1.2. Points examin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èche droite 3"/>
          <p:cNvSpPr/>
          <p:nvPr/>
        </p:nvSpPr>
        <p:spPr>
          <a:xfrm>
            <a:off x="684360" y="1989000"/>
            <a:ext cx="3382920" cy="1008360"/>
          </a:xfrm>
          <a:prstGeom prst="rightArrow">
            <a:avLst>
              <a:gd name="adj1" fmla="val 50000"/>
              <a:gd name="adj2" fmla="val 49966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301760"/>
            <a:ext cx="8715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f5494"/>
                </a:solidFill>
                <a:latin typeface="Verdana"/>
              </a:rPr>
              <a:t>Pourquoi réformer un système budgétaire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94760" y="2422440"/>
            <a:ext cx="85726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Réformer un système de gestion des finances publiques vise à améliorer la performance de ce système,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C’est-à-dire à le renforcer selon les objectifs de la GFP à chaque étape du cycle de la GFP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Améliorer la performance d’un système de GFP nécessite en général la combinaison de trois approches : (i) renforcer; (ii) améliorer; (iii) réformer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L’importance relative accordée à chacune de ces approches dépend du contexte du pays  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8572680" y="6215040"/>
            <a:ext cx="38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4DA0-3E6E-46B4-AA4F-F130562D1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E32D-7081-415C-A5FB-1AA822666280}" type="slidenum">
              <a:rPr b="0" lang="fr-FR" sz="1000" spc="-1" strike="noStrike">
                <a:solidFill>
                  <a:srgbClr val="0f5494"/>
                </a:solidFill>
                <a:latin typeface="Verdana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800" y="198864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Combiner :  </a:t>
            </a:r>
            <a:br>
              <a:rPr sz="2800"/>
            </a:b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(i) renforcer</a:t>
            </a:r>
            <a:br>
              <a:rPr sz="2800"/>
            </a:b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(ii) améliorer</a:t>
            </a:r>
            <a:br>
              <a:rPr sz="2800"/>
            </a:b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(iii) réformer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716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enforcer l'existant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Form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ntroduction d'outil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Améliore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Améliorer les manuels, systèmes et procéd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Form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éforme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Changer lois, règlements, procéd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Changer les dispositions organisationnel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Mettre en place les structures de gestion de la réforme  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14240" y="3571920"/>
            <a:ext cx="28083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6836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urquoi réformer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Pourquoi un séquença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s bases (ou fonctions essentielles) de la GF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’approche par platefor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Comment traiter les réformes trop sophistiquées pour le contexte du pay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odule 1.2. Points examin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Flèche droite 3"/>
          <p:cNvSpPr/>
          <p:nvPr/>
        </p:nvSpPr>
        <p:spPr>
          <a:xfrm>
            <a:off x="755640" y="2781360"/>
            <a:ext cx="4248000" cy="1008000"/>
          </a:xfrm>
          <a:prstGeom prst="rightArrow">
            <a:avLst>
              <a:gd name="adj1" fmla="val 50000"/>
              <a:gd name="adj2" fmla="val 50006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43280" y="856800"/>
            <a:ext cx="928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Pourquoi un séquençage des réformes? (1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2560" y="1928520"/>
            <a:ext cx="900108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55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L'expérience des pays développés montre qu'une  réforme budgétaire demande du temp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3" marL="1487880" indent="-212400">
              <a:lnSpc>
                <a:spcPct val="100000"/>
              </a:lnSpc>
              <a:spcBef>
                <a:spcPts val="55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Plus de 5 ans pour une reforme comptable au Royaume U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lnSpc>
                <a:spcPct val="100000"/>
              </a:lnSpc>
              <a:spcBef>
                <a:spcPts val="55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En F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éparation de la LOLF vers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Vote de la LOLF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Mise en place de la LOLF: Budget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L'expérience montre que l’introduction prématurée d’instruments sophistiqués dans les PVD et les pays en transition n'est pas concluante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43280" y="856800"/>
            <a:ext cx="928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Pourquoi un séquençage des réformes? (2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928520"/>
            <a:ext cx="900108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Un système budgétaire est influencé par des facteurs culturels et politiques, les infléchir demande du temps.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La réforme est un processus continu et permanent. Un processus d'apprentissage par l'expérience est indispensable (Il n'existe pas de recette magique !)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Corriger les erreu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'adapter aux chan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ogresser pas à 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Espace réservé du numéro de diapositive 5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96F3-7925-4BF4-856D-A86DC7878E9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Florence Brosset-Heckel</cp:lastModifiedBy>
  <dcterms:modified xsi:type="dcterms:W3CDTF">2016-06-09T07:49:07Z</dcterms:modified>
  <cp:revision>125</cp:revision>
  <dc:subject/>
  <dc:title>Slide 1</dc:title>
</cp:coreProperties>
</file>